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856788" cy="1410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70D-D860-44D1-890E-811E436B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7D6-2AA8-4E6B-BF8C-B38E600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E58-3584-4ABC-8353-91DDDEE9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E2A-908C-4EC5-8461-ED03D34D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82BD-ABDA-45C3-9DBB-281FDF16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5F2B-DB50-409C-9014-B7E7597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EEA9-DAAB-405D-8A49-2F719F4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783-E1BC-440C-8D70-995AD75E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F47B-BA76-4FEC-A8EF-0036105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91A-CC13-4F0D-8945-70BEBB9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B87B-9767-4405-8CA2-7B589AC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0CC-D41F-4F80-9590-B1C09F6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7F3-7343-49C1-B15D-0AB890E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EA0B-1BC7-4D64-8913-71F8EA93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48EF-9353-49AB-98DA-DF8C556B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9A5C-5C89-4C65-A395-CCCD5F1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BAB6-8352-4AA0-816D-C737B598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190-7940-48BE-BD0E-9AB989D9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391-ADA9-4957-A416-B861B56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DF1-C0B7-424C-A282-6D7791CB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AAE-E2AE-4899-B645-7755FEF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709-3CEE-4743-9070-671FD12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670-F95B-4106-A1BA-100AB48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70F-E0DD-455C-AD63-9555F51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9D0-5F7A-4F91-81DE-0EF89D1A00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225-74AF-4928-BD93-76216D304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5600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АЗВИ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БЪЕ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ДОРОЖ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ЕРВ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ЕСПУБЛ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ЕЛАРУ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42960" y="0"/>
          <a:ext cx="778968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0"/>
                    <a:ext cx="77896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812000" y="260280"/>
            <a:ext cx="1152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07:16:33Z</dcterms:created>
  <dc:creator>pc292</dc:creator>
  <dc:description/>
  <dc:language>en-US</dc:language>
  <cp:lastModifiedBy>Иванов</cp:lastModifiedBy>
  <dcterms:modified xsi:type="dcterms:W3CDTF">2008-07-16T12:00:43Z</dcterms:modified>
  <cp:revision>58</cp:revision>
  <dc:subject/>
  <dc:title>Презентация PowerPoint</dc:title>
</cp:coreProperties>
</file>